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697-4F68-41E3-AF8A-ACC7F4F0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07A-65FC-49AB-AF6E-C15DD16D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8C961-4F93-4528-A65F-86243BE9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6A5F7-6057-4FAD-9D8F-0B51284A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37397-C16D-43E5-BF5A-0A8E7484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3E2A-5DDE-4329-AC8B-383A1C5E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CE240-BC1D-4798-8EA8-31061E5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0DB18-BC10-4D2C-BD33-2F851FD4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02E3-29D6-4D96-BA44-F00C9B19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61671-A873-4E1A-9A09-29EEAA82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A3645-2F77-4324-9B5A-BC3E9B25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E6474-F8E0-4968-85A2-26857ABF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9ED-C147-48F4-BF18-5780A84B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68DB5-00C6-4E63-BF0D-1B1A47CA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301E7-6614-46BF-BA53-C554E2F2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26499-8EB2-452D-B49D-446CB5B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D0D89-EDAD-437B-86B9-B0E6BE1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DCC0D-3C50-4CEB-B827-D61ADCBB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A6AF0-BF39-42AD-98F1-9BFDBB72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26384-B670-47A1-AA88-DC0750A7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3ACBE-DA3A-4D14-8D04-024C9E6F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9C661-BAAB-42BA-AD0C-5844F16E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2DB58-2561-4602-AD42-E0A2D9BB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05D-D757-406C-8AD5-6E7B63EE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64747-3F5B-4264-8279-89573D5F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80E92-F72E-4AD4-8909-0599CFA2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C9358-4C05-4850-A77B-D16A13C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40909-56B6-4182-9B94-B27A5848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3C659-911E-4DEE-9FD4-1C46910D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D1DA-0107-4230-AB05-4AD5D07E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677B8-9750-41BC-9610-95479850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061B4-997B-4032-A11D-79959491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B692C-8466-4379-AA1B-A661166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1811-BC10-4C8E-9E09-F54651F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A920-F423-4A3E-95A6-6B0E1B68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19DF6-EB80-40EA-AB84-D07903B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7EB88-847B-48C9-A55F-FF0B98FB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8131-FB33-4C86-8556-AA7BE926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4CF-DEBC-4315-AA77-7B411A53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ADB1-93EF-4992-A97D-97283F9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B4C8-F34B-4038-AE7B-3089371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F0D9-99E8-4EE5-81CE-361F7A99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595D-8F16-42B4-AD63-C63DAA90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8307-64C4-44B3-9F47-FACEB69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B2D-ED31-4961-9D1D-F2467C20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4C8E-1F57-4A76-B4FF-068E10B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C143-FAE5-4DCC-B09A-5E1BC72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56A9-10F6-43CC-A2EF-09E40063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6D38-7FB5-4180-BA27-319954AD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91CD-5F64-4AD9-B64A-AF191EB0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8A8B-80A9-46B9-B145-B16D5FD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BA0C-6ED4-426B-AA2E-25B71974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A678-73D9-48F2-9733-85A663B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94E4-149E-4F89-8C86-007F9FF9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B599-055B-468C-823E-3D344E18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686-2972-4DF9-BA33-55F1E0C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B030-27BA-4D31-B1EF-E6BFC9B1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8AD0-34A6-412B-9CB6-98022E9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1DB2-D1BF-4CAD-B57B-DEE57C0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991A-6739-48E6-8592-A72A0EFC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3BC9-5C8D-45AC-A7C4-54CD8EAB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F6CB-E6E8-4CE2-96AA-546E0461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A211-85B8-4153-AC54-2B328945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3E84-5922-4937-9E71-45713147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1648-6A69-4777-BA5A-38D60809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962C-CF20-4925-AC38-8CB64EF5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135-12BE-4C9D-85D5-E7967D1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FAF4-5E18-416C-9F10-037EA993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C8A4-9038-4A51-99AA-EEA07B2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AD83-2A33-423A-8C79-00172D5C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9919-1F93-490C-A54C-1586749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DD0F-1617-4233-8334-C1A6CF6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73A9-786D-4746-86B8-BF60DDD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0B7F-C811-4A28-A17E-DDC6874C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F34D-6F1B-46D7-A1BA-F5B711AD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4D19-4A36-4AB9-B3DA-D0F072F8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AF75-ACBC-42CA-B26E-3368FA06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62C-A05C-4994-923A-15441653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46AF-BCF3-4E9D-89E7-96E3C4C2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03E6-D783-4929-887D-5CCDED8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E3AD-573F-4648-A0A8-604FB4F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6BC5-F073-4370-A768-2F30BDE0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A47B-3445-482D-AF4A-2F92A7CC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A580-5DEB-4CFB-9F34-07648F5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12B3-824F-4BDC-9AF4-29E17B4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A8F8-0055-4EEC-815C-012A5FF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40A1-27EC-4E7B-A1C4-3AB501A2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9C29E-4741-4B25-ACB7-294241DF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FEE-72B6-408D-8D85-0852208F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530FD-C633-406B-AC22-A7121FF1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32EC-B232-4AE6-B1C7-10D6BC3F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0F27-7AD6-4340-9EFF-872CE30B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DFB90-5128-42E9-8026-9A9DA6D7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61C5-ACEE-4A8E-8137-C03236E7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27E73-111C-4FAA-B007-E2C8E813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E5734-7725-47DA-8D11-CAF4293C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6D6E6-A093-4D8D-AD3E-EA28A84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1ECE-E737-4EF2-9871-ADBB6DD3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BFCD-2A56-42EB-9DE0-4454A501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B53-4963-46F4-926A-845870F3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8B9D-8D37-4C7D-A10F-6D65FAC3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D675-2F8B-4AD0-918F-1BC3B0B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123C2-85C8-44E4-9D41-84430718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49CB-A391-4352-86D6-17CDA915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EA95D-C9BB-4737-91B9-FC5F33EC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018B3-61E0-49A6-B6DD-FB776C36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5A3F-3A7F-4E6E-BC05-DA17964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AF61-83AB-47CA-A383-834EAD15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9AD21-C6F3-498B-8540-B008148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8AAD8-B302-44B8-9115-89E7A04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E91-3EB4-458D-8D6F-586B052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92A4E-B1FF-40DA-8274-EDE42E5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7B1D8-22E7-4D31-BC41-716CF2A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A9EE-21C7-48D3-9A7D-77A1DC83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0323-48C4-40E7-8873-1117616F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D73CA-A7AC-4AD6-88DC-C58D8635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11E9F-34A4-41C1-A4E5-33D52ADA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167D1-3513-40DF-97B8-EF6EC352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37130-1471-4B8A-8B99-EF3501DB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1FCB-FDB1-4A08-A06D-33E3DD5C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CC7C2-6DB2-470E-95ED-0840C282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6E4-1E83-4B9D-AB8B-36CEF8B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0A6C-65BA-42B8-B6B1-A1C894DB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F442-DC06-4302-900F-B7AC4B94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33712-1DE1-4FFA-ACF4-EA8A4D71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E24FA-A37D-48C4-9C39-CD5C8C89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C24AC-D088-479E-9159-E377F294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805CC-9F85-468B-9C22-DE43C44C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93D5-0BED-45BF-8524-147C66AC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6BF56-7D6E-4B1F-B342-E4139B85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8CCE7-A843-496B-8342-9C2EC71F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894B6-1843-406F-8A30-10E5EDA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1AF9-998C-4B0E-B1A6-7E90174448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8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8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9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87C-AF44-48F4-B3A1-E5BDBEC859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70A-0042-447A-A7ED-6008C34088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8890-7371-4B52-BEE8-4A950AEB6AC1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FB5-009A-4D37-AB43-2AB5F92A67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223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24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225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231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37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43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49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255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56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59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62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65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68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71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74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77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6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9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A76E-277A-4453-B94D-9229ED3EE16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9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9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0253-F48E-4C73-9992-A9315096F9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C060-3E43-4934-8699-12C9156156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2011320" y="245160"/>
            <a:ext cx="6895800" cy="5452920"/>
            <a:chOff x="2011320" y="245160"/>
            <a:chExt cx="6895800" cy="5452920"/>
          </a:xfrm>
        </p:grpSpPr>
        <p:grpSp>
          <p:nvGrpSpPr>
            <p:cNvPr id="486" name="Group 3"/>
            <p:cNvGrpSpPr/>
            <p:nvPr/>
          </p:nvGrpSpPr>
          <p:grpSpPr>
            <a:xfrm>
              <a:off x="3493800" y="955440"/>
              <a:ext cx="943560" cy="709200"/>
              <a:chOff x="3493800" y="955440"/>
              <a:chExt cx="943560" cy="709200"/>
            </a:xfrm>
          </p:grpSpPr>
          <p:sp>
            <p:nvSpPr>
              <p:cNvPr id="487" name="Oval 4"/>
              <p:cNvSpPr/>
              <p:nvPr/>
            </p:nvSpPr>
            <p:spPr>
              <a:xfrm>
                <a:off x="3493800" y="955440"/>
                <a:ext cx="94356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5"/>
              <p:cNvSpPr/>
              <p:nvPr/>
            </p:nvSpPr>
            <p:spPr>
              <a:xfrm>
                <a:off x="3832560" y="1266840"/>
                <a:ext cx="22968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6"/>
            <p:cNvGrpSpPr/>
            <p:nvPr/>
          </p:nvGrpSpPr>
          <p:grpSpPr>
            <a:xfrm>
              <a:off x="2011320" y="245160"/>
              <a:ext cx="6895800" cy="5452920"/>
              <a:chOff x="2011320" y="245160"/>
              <a:chExt cx="6895800" cy="5452920"/>
            </a:xfrm>
          </p:grpSpPr>
          <p:grpSp>
            <p:nvGrpSpPr>
              <p:cNvPr id="490" name="Group 7"/>
              <p:cNvGrpSpPr/>
              <p:nvPr/>
            </p:nvGrpSpPr>
            <p:grpSpPr>
              <a:xfrm>
                <a:off x="2011320" y="245160"/>
                <a:ext cx="6890760" cy="5452920"/>
                <a:chOff x="2011320" y="245160"/>
                <a:chExt cx="6890760" cy="5452920"/>
              </a:xfrm>
            </p:grpSpPr>
            <p:grpSp>
              <p:nvGrpSpPr>
                <p:cNvPr id="491" name="Group 8"/>
                <p:cNvGrpSpPr/>
                <p:nvPr/>
              </p:nvGrpSpPr>
              <p:grpSpPr>
                <a:xfrm>
                  <a:off x="3736800" y="1267920"/>
                  <a:ext cx="3598200" cy="2650320"/>
                  <a:chOff x="3736800" y="1267920"/>
                  <a:chExt cx="3598200" cy="2650320"/>
                </a:xfrm>
              </p:grpSpPr>
              <p:sp>
                <p:nvSpPr>
                  <p:cNvPr id="492" name="Oval 9"/>
                  <p:cNvSpPr/>
                  <p:nvPr/>
                </p:nvSpPr>
                <p:spPr>
                  <a:xfrm>
                    <a:off x="3736800" y="1267920"/>
                    <a:ext cx="3598200" cy="2650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10"/>
                  <p:cNvSpPr/>
                  <p:nvPr/>
                </p:nvSpPr>
                <p:spPr>
                  <a:xfrm>
                    <a:off x="5109120" y="2237760"/>
                    <a:ext cx="712800" cy="50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1"/>
                <p:cNvGrpSpPr/>
                <p:nvPr/>
              </p:nvGrpSpPr>
              <p:grpSpPr>
                <a:xfrm>
                  <a:off x="2011320" y="245160"/>
                  <a:ext cx="6890760" cy="5452920"/>
                  <a:chOff x="2011320" y="245160"/>
                  <a:chExt cx="6890760" cy="5452920"/>
                </a:xfrm>
              </p:grpSpPr>
              <p:grpSp>
                <p:nvGrpSpPr>
                  <p:cNvPr id="495" name="Group 12"/>
                  <p:cNvGrpSpPr/>
                  <p:nvPr/>
                </p:nvGrpSpPr>
                <p:grpSpPr>
                  <a:xfrm>
                    <a:off x="5761440" y="2322360"/>
                    <a:ext cx="2558880" cy="2743560"/>
                    <a:chOff x="5761440" y="2322360"/>
                    <a:chExt cx="2558880" cy="2743560"/>
                  </a:xfrm>
                </p:grpSpPr>
                <p:sp>
                  <p:nvSpPr>
                    <p:cNvPr id="496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Freeform 14"/>
                    <p:cNvSpPr/>
                    <p:nvPr/>
                  </p:nvSpPr>
                  <p:spPr>
                    <a:xfrm rot="2711400">
                      <a:off x="7133040" y="414468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Group 15"/>
                  <p:cNvGrpSpPr/>
                  <p:nvPr/>
                </p:nvGrpSpPr>
                <p:grpSpPr>
                  <a:xfrm>
                    <a:off x="5786640" y="2148120"/>
                    <a:ext cx="3041640" cy="2530080"/>
                    <a:chOff x="5786640" y="2148120"/>
                    <a:chExt cx="3041640" cy="2530080"/>
                  </a:xfrm>
                </p:grpSpPr>
                <p:sp>
                  <p:nvSpPr>
                    <p:cNvPr id="499" name="Freeform 16"/>
                    <p:cNvSpPr/>
                    <p:nvPr/>
                  </p:nvSpPr>
                  <p:spPr>
                    <a:xfrm rot="2103600">
                      <a:off x="5705640" y="2752560"/>
                      <a:ext cx="22392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Freeform 17"/>
                    <p:cNvSpPr/>
                    <p:nvPr/>
                  </p:nvSpPr>
                  <p:spPr>
                    <a:xfrm rot="2103600">
                      <a:off x="7543080" y="372240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Group 18"/>
                  <p:cNvGrpSpPr/>
                  <p:nvPr/>
                </p:nvGrpSpPr>
                <p:grpSpPr>
                  <a:xfrm>
                    <a:off x="5776200" y="2063880"/>
                    <a:ext cx="3097440" cy="1992960"/>
                    <a:chOff x="5776200" y="2063880"/>
                    <a:chExt cx="3097440" cy="1992960"/>
                  </a:xfrm>
                </p:grpSpPr>
                <p:sp>
                  <p:nvSpPr>
                    <p:cNvPr id="502" name="Freeform 19"/>
                    <p:cNvSpPr/>
                    <p:nvPr/>
                  </p:nvSpPr>
                  <p:spPr>
                    <a:xfrm rot="1582800">
                      <a:off x="5747760" y="2520360"/>
                      <a:ext cx="21441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20"/>
                    <p:cNvSpPr/>
                    <p:nvPr/>
                  </p:nvSpPr>
                  <p:spPr>
                    <a:xfrm rot="1582800">
                      <a:off x="7653600" y="324504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21"/>
                  <p:cNvGrpSpPr/>
                  <p:nvPr/>
                </p:nvGrpSpPr>
                <p:grpSpPr>
                  <a:xfrm>
                    <a:off x="5768280" y="1971720"/>
                    <a:ext cx="3133800" cy="1607760"/>
                    <a:chOff x="5768280" y="1971720"/>
                    <a:chExt cx="3133800" cy="1607760"/>
                  </a:xfrm>
                </p:grpSpPr>
                <p:sp>
                  <p:nvSpPr>
                    <p:cNvPr id="505" name="Freeform 22"/>
                    <p:cNvSpPr/>
                    <p:nvPr/>
                  </p:nvSpPr>
                  <p:spPr>
                    <a:xfrm rot="1080000">
                      <a:off x="5781240" y="2281320"/>
                      <a:ext cx="207000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23"/>
                    <p:cNvSpPr/>
                    <p:nvPr/>
                  </p:nvSpPr>
                  <p:spPr>
                    <a:xfrm rot="1080000">
                      <a:off x="7716600" y="2774160"/>
                      <a:ext cx="111204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24"/>
                  <p:cNvGrpSpPr/>
                  <p:nvPr/>
                </p:nvGrpSpPr>
                <p:grpSpPr>
                  <a:xfrm>
                    <a:off x="5805000" y="1880280"/>
                    <a:ext cx="2941200" cy="999720"/>
                    <a:chOff x="5805000" y="1880280"/>
                    <a:chExt cx="2941200" cy="999720"/>
                  </a:xfrm>
                </p:grpSpPr>
                <p:sp>
                  <p:nvSpPr>
                    <p:cNvPr id="508" name="Freeform 25"/>
                    <p:cNvSpPr/>
                    <p:nvPr/>
                  </p:nvSpPr>
                  <p:spPr>
                    <a:xfrm rot="463200">
                      <a:off x="5821920" y="2006280"/>
                      <a:ext cx="19062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26"/>
                    <p:cNvSpPr/>
                    <p:nvPr/>
                  </p:nvSpPr>
                  <p:spPr>
                    <a:xfrm rot="463200">
                      <a:off x="7686720" y="2212560"/>
                      <a:ext cx="102348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27"/>
                  <p:cNvGrpSpPr/>
                  <p:nvPr/>
                </p:nvGrpSpPr>
                <p:grpSpPr>
                  <a:xfrm>
                    <a:off x="5851080" y="1815480"/>
                    <a:ext cx="2658960" cy="442800"/>
                    <a:chOff x="5851080" y="1815480"/>
                    <a:chExt cx="2658960" cy="442800"/>
                  </a:xfrm>
                </p:grpSpPr>
                <p:sp>
                  <p:nvSpPr>
                    <p:cNvPr id="511" name="Freeform 28"/>
                    <p:cNvSpPr/>
                    <p:nvPr/>
                  </p:nvSpPr>
                  <p:spPr>
                    <a:xfrm rot="21515400">
                      <a:off x="5853960" y="1851840"/>
                      <a:ext cx="17308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29"/>
                    <p:cNvSpPr/>
                    <p:nvPr/>
                  </p:nvSpPr>
                  <p:spPr>
                    <a:xfrm rot="21515400">
                      <a:off x="7576560" y="1826640"/>
                      <a:ext cx="928080" cy="42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30"/>
                  <p:cNvGrpSpPr/>
                  <p:nvPr/>
                </p:nvGrpSpPr>
                <p:grpSpPr>
                  <a:xfrm>
                    <a:off x="5788440" y="1306800"/>
                    <a:ext cx="2363760" cy="785520"/>
                    <a:chOff x="5788440" y="1306800"/>
                    <a:chExt cx="2363760" cy="785520"/>
                  </a:xfrm>
                </p:grpSpPr>
                <p:sp>
                  <p:nvSpPr>
                    <p:cNvPr id="514" name="Freeform 31"/>
                    <p:cNvSpPr/>
                    <p:nvPr/>
                  </p:nvSpPr>
                  <p:spPr>
                    <a:xfrm rot="20797200">
                      <a:off x="5798160" y="1655280"/>
                      <a:ext cx="15213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32"/>
                    <p:cNvSpPr/>
                    <p:nvPr/>
                  </p:nvSpPr>
                  <p:spPr>
                    <a:xfrm rot="20797200">
                      <a:off x="7301160" y="139500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33"/>
                  <p:cNvGrpSpPr/>
                  <p:nvPr/>
                </p:nvGrpSpPr>
                <p:grpSpPr>
                  <a:xfrm>
                    <a:off x="2647080" y="2477520"/>
                    <a:ext cx="2552400" cy="2739960"/>
                    <a:chOff x="2647080" y="2477520"/>
                    <a:chExt cx="2552400" cy="2739960"/>
                  </a:xfrm>
                </p:grpSpPr>
                <p:sp>
                  <p:nvSpPr>
                    <p:cNvPr id="517" name="Freeform 34"/>
                    <p:cNvSpPr/>
                    <p:nvPr/>
                  </p:nvSpPr>
                  <p:spPr>
                    <a:xfrm flipH="1" rot="18888600">
                      <a:off x="3251880" y="317448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35"/>
                    <p:cNvSpPr/>
                    <p:nvPr/>
                  </p:nvSpPr>
                  <p:spPr>
                    <a:xfrm flipH="1" rot="18888600">
                      <a:off x="2692080" y="4299480"/>
                      <a:ext cx="114120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36"/>
                  <p:cNvGrpSpPr/>
                  <p:nvPr/>
                </p:nvGrpSpPr>
                <p:grpSpPr>
                  <a:xfrm>
                    <a:off x="2084400" y="2369880"/>
                    <a:ext cx="3043080" cy="2527200"/>
                    <a:chOff x="2084400" y="2369880"/>
                    <a:chExt cx="3043080" cy="2527200"/>
                  </a:xfrm>
                </p:grpSpPr>
                <p:sp>
                  <p:nvSpPr>
                    <p:cNvPr id="520" name="Freeform 37"/>
                    <p:cNvSpPr/>
                    <p:nvPr/>
                  </p:nvSpPr>
                  <p:spPr>
                    <a:xfrm flipH="1" rot="19496400">
                      <a:off x="2973600" y="2972160"/>
                      <a:ext cx="223272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096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2040840" y="2283480"/>
                    <a:ext cx="3097440" cy="1991880"/>
                    <a:chOff x="2040840" y="2283480"/>
                    <a:chExt cx="3097440" cy="1991880"/>
                  </a:xfrm>
                </p:grpSpPr>
                <p:sp>
                  <p:nvSpPr>
                    <p:cNvPr id="523" name="Freeform 40"/>
                    <p:cNvSpPr/>
                    <p:nvPr/>
                  </p:nvSpPr>
                  <p:spPr>
                    <a:xfrm flipH="1" rot="20017200">
                      <a:off x="3022920" y="2739960"/>
                      <a:ext cx="21434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48760" cy="58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2"/>
                  <p:cNvGrpSpPr/>
                  <p:nvPr/>
                </p:nvGrpSpPr>
                <p:grpSpPr>
                  <a:xfrm>
                    <a:off x="2011320" y="2192400"/>
                    <a:ext cx="3135240" cy="1606680"/>
                    <a:chOff x="2011320" y="2192400"/>
                    <a:chExt cx="3135240" cy="1606680"/>
                  </a:xfrm>
                </p:grpSpPr>
                <p:sp>
                  <p:nvSpPr>
                    <p:cNvPr id="526" name="Freeform 43"/>
                    <p:cNvSpPr/>
                    <p:nvPr/>
                  </p:nvSpPr>
                  <p:spPr>
                    <a:xfrm flipH="1" rot="20520000">
                      <a:off x="3062880" y="2502000"/>
                      <a:ext cx="20703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44"/>
                    <p:cNvSpPr/>
                    <p:nvPr/>
                  </p:nvSpPr>
                  <p:spPr>
                    <a:xfrm flipH="1" rot="20520000">
                      <a:off x="2084400" y="2993760"/>
                      <a:ext cx="111168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45"/>
                  <p:cNvGrpSpPr/>
                  <p:nvPr/>
                </p:nvGrpSpPr>
                <p:grpSpPr>
                  <a:xfrm>
                    <a:off x="2166840" y="2100240"/>
                    <a:ext cx="2940120" cy="999360"/>
                    <a:chOff x="2166840" y="2100240"/>
                    <a:chExt cx="2940120" cy="999360"/>
                  </a:xfrm>
                </p:grpSpPr>
                <p:sp>
                  <p:nvSpPr>
                    <p:cNvPr id="529" name="Freeform 46"/>
                    <p:cNvSpPr/>
                    <p:nvPr/>
                  </p:nvSpPr>
                  <p:spPr>
                    <a:xfrm flipH="1" rot="21136800">
                      <a:off x="3184560" y="2226240"/>
                      <a:ext cx="19047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47"/>
                    <p:cNvSpPr/>
                    <p:nvPr/>
                  </p:nvSpPr>
                  <p:spPr>
                    <a:xfrm flipH="1" rot="21136800">
                      <a:off x="2202120" y="243216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48"/>
                  <p:cNvGrpSpPr/>
                  <p:nvPr/>
                </p:nvGrpSpPr>
                <p:grpSpPr>
                  <a:xfrm>
                    <a:off x="2402280" y="2033640"/>
                    <a:ext cx="2661120" cy="447480"/>
                    <a:chOff x="2402280" y="2033640"/>
                    <a:chExt cx="2661120" cy="447480"/>
                  </a:xfrm>
                </p:grpSpPr>
                <p:sp>
                  <p:nvSpPr>
                    <p:cNvPr id="532" name="Freeform 49"/>
                    <p:cNvSpPr/>
                    <p:nvPr/>
                  </p:nvSpPr>
                  <p:spPr>
                    <a:xfrm flipH="1" rot="84600">
                      <a:off x="3329640" y="2068920"/>
                      <a:ext cx="17301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50"/>
                    <p:cNvSpPr/>
                    <p:nvPr/>
                  </p:nvSpPr>
                  <p:spPr>
                    <a:xfrm flipH="1" rot="84600">
                      <a:off x="2407320" y="2044800"/>
                      <a:ext cx="928080" cy="42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51"/>
                  <p:cNvGrpSpPr/>
                  <p:nvPr/>
                </p:nvGrpSpPr>
                <p:grpSpPr>
                  <a:xfrm>
                    <a:off x="2759400" y="1523520"/>
                    <a:ext cx="2364120" cy="784440"/>
                    <a:chOff x="2759400" y="1523520"/>
                    <a:chExt cx="2364120" cy="784440"/>
                  </a:xfrm>
                </p:grpSpPr>
                <p:sp>
                  <p:nvSpPr>
                    <p:cNvPr id="535" name="Freeform 52"/>
                    <p:cNvSpPr/>
                    <p:nvPr/>
                  </p:nvSpPr>
                  <p:spPr>
                    <a:xfrm flipH="1" rot="802800">
                      <a:off x="3594600" y="187056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53"/>
                    <p:cNvSpPr/>
                    <p:nvPr/>
                  </p:nvSpPr>
                  <p:spPr>
                    <a:xfrm flipH="1" rot="802800">
                      <a:off x="2796120" y="1611720"/>
                      <a:ext cx="81360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54"/>
                  <p:cNvGrpSpPr/>
                  <p:nvPr/>
                </p:nvGrpSpPr>
                <p:grpSpPr>
                  <a:xfrm>
                    <a:off x="2885400" y="1237680"/>
                    <a:ext cx="2327400" cy="1083240"/>
                    <a:chOff x="2885400" y="1237680"/>
                    <a:chExt cx="2327400" cy="1083240"/>
                  </a:xfrm>
                </p:grpSpPr>
                <p:sp>
                  <p:nvSpPr>
                    <p:cNvPr id="538" name="Freeform 55"/>
                    <p:cNvSpPr/>
                    <p:nvPr/>
                  </p:nvSpPr>
                  <p:spPr>
                    <a:xfrm flipH="1" rot="1278000">
                      <a:off x="3694680" y="1788480"/>
                      <a:ext cx="15217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56"/>
                    <p:cNvSpPr/>
                    <p:nvPr/>
                  </p:nvSpPr>
                  <p:spPr>
                    <a:xfrm flipH="1" rot="1278000">
                      <a:off x="2932560" y="1372680"/>
                      <a:ext cx="8222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57"/>
                  <p:cNvGrpSpPr/>
                  <p:nvPr/>
                </p:nvGrpSpPr>
                <p:grpSpPr>
                  <a:xfrm>
                    <a:off x="3161160" y="833760"/>
                    <a:ext cx="2169360" cy="1503720"/>
                    <a:chOff x="3161160" y="833760"/>
                    <a:chExt cx="2169360" cy="1503720"/>
                  </a:xfrm>
                </p:grpSpPr>
                <p:sp>
                  <p:nvSpPr>
                    <p:cNvPr id="541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59"/>
                    <p:cNvSpPr/>
                    <p:nvPr/>
                  </p:nvSpPr>
                  <p:spPr>
                    <a:xfrm flipH="1" rot="2028600">
                      <a:off x="3207600" y="1024920"/>
                      <a:ext cx="81396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60"/>
                  <p:cNvGrpSpPr/>
                  <p:nvPr/>
                </p:nvGrpSpPr>
                <p:grpSpPr>
                  <a:xfrm>
                    <a:off x="3434040" y="437400"/>
                    <a:ext cx="1988280" cy="1830240"/>
                    <a:chOff x="3434040" y="437400"/>
                    <a:chExt cx="1988280" cy="1830240"/>
                  </a:xfrm>
                </p:grpSpPr>
                <p:sp>
                  <p:nvSpPr>
                    <p:cNvPr id="544" name="Freeform 61"/>
                    <p:cNvSpPr/>
                    <p:nvPr/>
                  </p:nvSpPr>
                  <p:spPr>
                    <a:xfrm flipH="1" rot="2664600">
                      <a:off x="400716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62"/>
                    <p:cNvSpPr/>
                    <p:nvPr/>
                  </p:nvSpPr>
                  <p:spPr>
                    <a:xfrm flipH="1" rot="2664600">
                      <a:off x="3461760" y="66744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Group 63"/>
                  <p:cNvGrpSpPr/>
                  <p:nvPr/>
                </p:nvGrpSpPr>
                <p:grpSpPr>
                  <a:xfrm>
                    <a:off x="4027320" y="337680"/>
                    <a:ext cx="1462320" cy="1885680"/>
                    <a:chOff x="4027320" y="337680"/>
                    <a:chExt cx="1462320" cy="1885680"/>
                  </a:xfrm>
                </p:grpSpPr>
                <p:sp>
                  <p:nvSpPr>
                    <p:cNvPr id="547" name="Freeform 64"/>
                    <p:cNvSpPr/>
                    <p:nvPr/>
                  </p:nvSpPr>
                  <p:spPr>
                    <a:xfrm flipH="1" rot="3474000">
                      <a:off x="4338360" y="1446840"/>
                      <a:ext cx="135684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5"/>
                    <p:cNvSpPr/>
                    <p:nvPr/>
                  </p:nvSpPr>
                  <p:spPr>
                    <a:xfrm flipH="1" rot="3474000">
                      <a:off x="4032720" y="548640"/>
                      <a:ext cx="7282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66"/>
                  <p:cNvGrpSpPr/>
                  <p:nvPr/>
                </p:nvGrpSpPr>
                <p:grpSpPr>
                  <a:xfrm>
                    <a:off x="4446720" y="245160"/>
                    <a:ext cx="1125360" cy="1948320"/>
                    <a:chOff x="4446720" y="245160"/>
                    <a:chExt cx="1125360" cy="1948320"/>
                  </a:xfrm>
                </p:grpSpPr>
                <p:sp>
                  <p:nvSpPr>
                    <p:cNvPr id="550" name="Freeform 67"/>
                    <p:cNvSpPr/>
                    <p:nvPr/>
                  </p:nvSpPr>
                  <p:spPr>
                    <a:xfrm flipH="1" rot="4126800">
                      <a:off x="4557240" y="1402920"/>
                      <a:ext cx="13082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68"/>
                    <p:cNvSpPr/>
                    <p:nvPr/>
                  </p:nvSpPr>
                  <p:spPr>
                    <a:xfrm flipH="1" rot="4126800">
                      <a:off x="4416480" y="439920"/>
                      <a:ext cx="7030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69"/>
                  <p:cNvGrpSpPr/>
                  <p:nvPr/>
                </p:nvGrpSpPr>
                <p:grpSpPr>
                  <a:xfrm>
                    <a:off x="5661720" y="954360"/>
                    <a:ext cx="2313720" cy="1109160"/>
                    <a:chOff x="5661720" y="954360"/>
                    <a:chExt cx="2313720" cy="1109160"/>
                  </a:xfrm>
                </p:grpSpPr>
                <p:sp>
                  <p:nvSpPr>
                    <p:cNvPr id="553" name="Freeform 70"/>
                    <p:cNvSpPr/>
                    <p:nvPr/>
                  </p:nvSpPr>
                  <p:spPr>
                    <a:xfrm rot="20274000">
                      <a:off x="5655600" y="1522800"/>
                      <a:ext cx="151884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71"/>
                    <p:cNvSpPr/>
                    <p:nvPr/>
                  </p:nvSpPr>
                  <p:spPr>
                    <a:xfrm rot="20274000">
                      <a:off x="7112520" y="1091880"/>
                      <a:ext cx="81360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72"/>
                  <p:cNvGrpSpPr/>
                  <p:nvPr/>
                </p:nvGrpSpPr>
                <p:grpSpPr>
                  <a:xfrm>
                    <a:off x="5531040" y="627120"/>
                    <a:ext cx="2197440" cy="1449720"/>
                    <a:chOff x="5531040" y="627120"/>
                    <a:chExt cx="2197440" cy="1449720"/>
                  </a:xfrm>
                </p:grpSpPr>
                <p:sp>
                  <p:nvSpPr>
                    <p:cNvPr id="556" name="Freeform 73"/>
                    <p:cNvSpPr/>
                    <p:nvPr/>
                  </p:nvSpPr>
                  <p:spPr>
                    <a:xfrm rot="19678800">
                      <a:off x="5485320" y="142920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74"/>
                    <p:cNvSpPr/>
                    <p:nvPr/>
                  </p:nvSpPr>
                  <p:spPr>
                    <a:xfrm rot="19678800">
                      <a:off x="6861960" y="81180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Freeform 75"/>
                  <p:cNvSpPr/>
                  <p:nvPr/>
                </p:nvSpPr>
                <p:spPr>
                  <a:xfrm flipH="1" rot="4578600">
                    <a:off x="4765680" y="1469520"/>
                    <a:ext cx="126720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76"/>
                  <p:cNvSpPr/>
                  <p:nvPr/>
                </p:nvSpPr>
                <p:spPr>
                  <a:xfrm flipH="1" rot="4578600">
                    <a:off x="4792320" y="539640"/>
                    <a:ext cx="67896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5358600" y="271800"/>
                    <a:ext cx="1191600" cy="1897200"/>
                    <a:chOff x="5358600" y="271800"/>
                    <a:chExt cx="1191600" cy="1897200"/>
                  </a:xfrm>
                </p:grpSpPr>
                <p:sp>
                  <p:nvSpPr>
                    <p:cNvPr id="561" name="Freeform 78"/>
                    <p:cNvSpPr/>
                    <p:nvPr/>
                  </p:nvSpPr>
                  <p:spPr>
                    <a:xfrm rot="17742000">
                      <a:off x="5090400" y="141696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79"/>
                    <p:cNvSpPr/>
                    <p:nvPr/>
                  </p:nvSpPr>
                  <p:spPr>
                    <a:xfrm rot="17742000">
                      <a:off x="5887440" y="487080"/>
                      <a:ext cx="70128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80"/>
                  <p:cNvGrpSpPr/>
                  <p:nvPr/>
                </p:nvGrpSpPr>
                <p:grpSpPr>
                  <a:xfrm>
                    <a:off x="5352120" y="391320"/>
                    <a:ext cx="1888920" cy="1791000"/>
                    <a:chOff x="5352120" y="391320"/>
                    <a:chExt cx="1888920" cy="1791000"/>
                  </a:xfrm>
                </p:grpSpPr>
                <p:sp>
                  <p:nvSpPr>
                    <p:cNvPr id="564" name="Freeform 81"/>
                    <p:cNvSpPr/>
                    <p:nvPr/>
                  </p:nvSpPr>
                  <p:spPr>
                    <a:xfrm rot="18822600">
                      <a:off x="5252400" y="1387080"/>
                      <a:ext cx="14223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82"/>
                    <p:cNvSpPr/>
                    <p:nvPr/>
                  </p:nvSpPr>
                  <p:spPr>
                    <a:xfrm rot="18822600">
                      <a:off x="6406200" y="587520"/>
                      <a:ext cx="765360" cy="51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83"/>
                  <p:cNvGrpSpPr/>
                  <p:nvPr/>
                </p:nvGrpSpPr>
                <p:grpSpPr>
                  <a:xfrm>
                    <a:off x="5458320" y="296280"/>
                    <a:ext cx="425880" cy="1791360"/>
                    <a:chOff x="5458320" y="296280"/>
                    <a:chExt cx="425880" cy="1791360"/>
                  </a:xfrm>
                </p:grpSpPr>
                <p:sp>
                  <p:nvSpPr>
                    <p:cNvPr id="567" name="Freeform 84"/>
                    <p:cNvSpPr/>
                    <p:nvPr/>
                  </p:nvSpPr>
                  <p:spPr>
                    <a:xfrm rot="16696200">
                      <a:off x="5006880" y="144504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85"/>
                    <p:cNvSpPr/>
                    <p:nvPr/>
                  </p:nvSpPr>
                  <p:spPr>
                    <a:xfrm rot="16696200">
                      <a:off x="5441040" y="5371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6"/>
                  <p:cNvGrpSpPr/>
                  <p:nvPr/>
                </p:nvGrpSpPr>
                <p:grpSpPr>
                  <a:xfrm>
                    <a:off x="3062520" y="2532240"/>
                    <a:ext cx="2195280" cy="3001320"/>
                    <a:chOff x="3062520" y="2532240"/>
                    <a:chExt cx="2195280" cy="3001320"/>
                  </a:xfrm>
                </p:grpSpPr>
                <p:sp>
                  <p:nvSpPr>
                    <p:cNvPr id="570" name="Freeform 87"/>
                    <p:cNvSpPr/>
                    <p:nvPr/>
                  </p:nvSpPr>
                  <p:spPr>
                    <a:xfrm flipH="1" rot="18336000">
                      <a:off x="3418200" y="3315240"/>
                      <a:ext cx="2125440" cy="38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88"/>
                    <p:cNvSpPr/>
                    <p:nvPr/>
                  </p:nvSpPr>
                  <p:spPr>
                    <a:xfrm flipH="1" rot="18336000">
                      <a:off x="3070080" y="4590360"/>
                      <a:ext cx="11408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89"/>
                  <p:cNvGrpSpPr/>
                  <p:nvPr/>
                </p:nvGrpSpPr>
                <p:grpSpPr>
                  <a:xfrm>
                    <a:off x="3790440" y="2652120"/>
                    <a:ext cx="1485360" cy="2998800"/>
                    <a:chOff x="3790440" y="2652120"/>
                    <a:chExt cx="1485360" cy="2998800"/>
                  </a:xfrm>
                </p:grpSpPr>
                <p:sp>
                  <p:nvSpPr>
                    <p:cNvPr id="573" name="Freeform 90"/>
                    <p:cNvSpPr/>
                    <p:nvPr/>
                  </p:nvSpPr>
                  <p:spPr>
                    <a:xfrm flipH="1" rot="17543400">
                      <a:off x="3738960" y="3441240"/>
                      <a:ext cx="196632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91"/>
                    <p:cNvSpPr/>
                    <p:nvPr/>
                  </p:nvSpPr>
                  <p:spPr>
                    <a:xfrm flipH="1" rot="17543400">
                      <a:off x="3742920" y="4745160"/>
                      <a:ext cx="105516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92"/>
                  <p:cNvGrpSpPr/>
                  <p:nvPr/>
                </p:nvGrpSpPr>
                <p:grpSpPr>
                  <a:xfrm>
                    <a:off x="4504320" y="2694240"/>
                    <a:ext cx="870120" cy="2928240"/>
                    <a:chOff x="4504320" y="2694240"/>
                    <a:chExt cx="870120" cy="2928240"/>
                  </a:xfrm>
                </p:grpSpPr>
                <p:sp>
                  <p:nvSpPr>
                    <p:cNvPr id="576" name="Freeform 93"/>
                    <p:cNvSpPr/>
                    <p:nvPr/>
                  </p:nvSpPr>
                  <p:spPr>
                    <a:xfrm flipH="1" rot="16870800">
                      <a:off x="4079160" y="3479400"/>
                      <a:ext cx="188532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94"/>
                    <p:cNvSpPr/>
                    <p:nvPr/>
                  </p:nvSpPr>
                  <p:spPr>
                    <a:xfrm flipH="1" rot="16870800">
                      <a:off x="4361040" y="4802760"/>
                      <a:ext cx="1012320" cy="54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95"/>
                  <p:cNvGrpSpPr/>
                  <p:nvPr/>
                </p:nvGrpSpPr>
                <p:grpSpPr>
                  <a:xfrm>
                    <a:off x="5674680" y="2485080"/>
                    <a:ext cx="2282760" cy="2950560"/>
                    <a:chOff x="5674680" y="2485080"/>
                    <a:chExt cx="2282760" cy="2950560"/>
                  </a:xfrm>
                </p:grpSpPr>
                <p:sp>
                  <p:nvSpPr>
                    <p:cNvPr id="579" name="Freeform 96"/>
                    <p:cNvSpPr/>
                    <p:nvPr/>
                  </p:nvSpPr>
                  <p:spPr>
                    <a:xfrm rot="3144000">
                      <a:off x="5411880" y="3252240"/>
                      <a:ext cx="21250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97"/>
                    <p:cNvSpPr/>
                    <p:nvPr/>
                  </p:nvSpPr>
                  <p:spPr>
                    <a:xfrm rot="3144000">
                      <a:off x="6801840" y="4498200"/>
                      <a:ext cx="113760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98"/>
                  <p:cNvGrpSpPr/>
                  <p:nvPr/>
                </p:nvGrpSpPr>
                <p:grpSpPr>
                  <a:xfrm>
                    <a:off x="5651640" y="2592000"/>
                    <a:ext cx="1755000" cy="3033000"/>
                    <a:chOff x="5651640" y="2592000"/>
                    <a:chExt cx="1755000" cy="3033000"/>
                  </a:xfrm>
                </p:grpSpPr>
                <p:sp>
                  <p:nvSpPr>
                    <p:cNvPr id="582" name="Freeform 99"/>
                    <p:cNvSpPr/>
                    <p:nvPr/>
                  </p:nvSpPr>
                  <p:spPr>
                    <a:xfrm rot="3745200">
                      <a:off x="5267880" y="3395160"/>
                      <a:ext cx="2035080" cy="36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100"/>
                    <p:cNvSpPr/>
                    <p:nvPr/>
                  </p:nvSpPr>
                  <p:spPr>
                    <a:xfrm rot="3745200">
                      <a:off x="6351480" y="4718160"/>
                      <a:ext cx="109224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101"/>
                  <p:cNvGrpSpPr/>
                  <p:nvPr/>
                </p:nvGrpSpPr>
                <p:grpSpPr>
                  <a:xfrm>
                    <a:off x="5576760" y="2712600"/>
                    <a:ext cx="1226880" cy="2985480"/>
                    <a:chOff x="5576760" y="2712600"/>
                    <a:chExt cx="1226880" cy="2985480"/>
                  </a:xfrm>
                </p:grpSpPr>
                <p:sp>
                  <p:nvSpPr>
                    <p:cNvPr id="585" name="Freeform 102"/>
                    <p:cNvSpPr/>
                    <p:nvPr/>
                  </p:nvSpPr>
                  <p:spPr>
                    <a:xfrm rot="4286400">
                      <a:off x="5047560" y="3543840"/>
                      <a:ext cx="197136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103"/>
                    <p:cNvSpPr/>
                    <p:nvPr/>
                  </p:nvSpPr>
                  <p:spPr>
                    <a:xfrm rot="4286400">
                      <a:off x="5880600" y="488304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104"/>
                  <p:cNvGrpSpPr/>
                  <p:nvPr/>
                </p:nvGrpSpPr>
                <p:grpSpPr>
                  <a:xfrm>
                    <a:off x="5519880" y="2840760"/>
                    <a:ext cx="698760" cy="2778480"/>
                    <a:chOff x="5519880" y="2840760"/>
                    <a:chExt cx="698760" cy="2778480"/>
                  </a:xfrm>
                </p:grpSpPr>
                <p:sp>
                  <p:nvSpPr>
                    <p:cNvPr id="588" name="Freeform 105"/>
                    <p:cNvSpPr/>
                    <p:nvPr/>
                  </p:nvSpPr>
                  <p:spPr>
                    <a:xfrm rot="4898400">
                      <a:off x="4895280" y="3607560"/>
                      <a:ext cx="1813320" cy="30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106"/>
                    <p:cNvSpPr/>
                    <p:nvPr/>
                  </p:nvSpPr>
                  <p:spPr>
                    <a:xfrm rot="4898400">
                      <a:off x="5425560" y="4864680"/>
                      <a:ext cx="97236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107"/>
                  <p:cNvGrpSpPr/>
                  <p:nvPr/>
                </p:nvGrpSpPr>
                <p:grpSpPr>
                  <a:xfrm>
                    <a:off x="4959720" y="2887200"/>
                    <a:ext cx="666720" cy="2718000"/>
                    <a:chOff x="4959720" y="2887200"/>
                    <a:chExt cx="666720" cy="2718000"/>
                  </a:xfrm>
                </p:grpSpPr>
                <p:sp>
                  <p:nvSpPr>
                    <p:cNvPr id="591" name="Freeform 108"/>
                    <p:cNvSpPr/>
                    <p:nvPr/>
                  </p:nvSpPr>
                  <p:spPr>
                    <a:xfrm rot="5755200">
                      <a:off x="4533120" y="3664800"/>
                      <a:ext cx="17730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109"/>
                    <p:cNvSpPr/>
                    <p:nvPr/>
                  </p:nvSpPr>
                  <p:spPr>
                    <a:xfrm rot="5755200">
                      <a:off x="4713120" y="4930560"/>
                      <a:ext cx="9529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Group 110"/>
              <p:cNvGrpSpPr/>
              <p:nvPr/>
            </p:nvGrpSpPr>
            <p:grpSpPr>
              <a:xfrm>
                <a:off x="2175120" y="683640"/>
                <a:ext cx="6732000" cy="4521600"/>
                <a:chOff x="2175120" y="683640"/>
                <a:chExt cx="6732000" cy="4521600"/>
              </a:xfrm>
            </p:grpSpPr>
            <p:grpSp>
              <p:nvGrpSpPr>
                <p:cNvPr id="594" name="Group 111"/>
                <p:cNvGrpSpPr/>
                <p:nvPr/>
              </p:nvGrpSpPr>
              <p:grpSpPr>
                <a:xfrm>
                  <a:off x="2175120" y="683640"/>
                  <a:ext cx="6732000" cy="4521600"/>
                  <a:chOff x="2175120" y="683640"/>
                  <a:chExt cx="6732000" cy="4521600"/>
                </a:xfrm>
              </p:grpSpPr>
              <p:sp>
                <p:nvSpPr>
                  <p:cNvPr id="595" name="Arc 112"/>
                  <p:cNvSpPr/>
                  <p:nvPr/>
                </p:nvSpPr>
                <p:spPr>
                  <a:xfrm flipV="1">
                    <a:off x="5743080" y="859680"/>
                    <a:ext cx="3164040" cy="2522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rc 113"/>
                  <p:cNvSpPr/>
                  <p:nvPr/>
                </p:nvSpPr>
                <p:spPr>
                  <a:xfrm flipH="1">
                    <a:off x="2562480" y="2271240"/>
                    <a:ext cx="24883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rc 114"/>
                  <p:cNvSpPr/>
                  <p:nvPr/>
                </p:nvSpPr>
                <p:spPr>
                  <a:xfrm>
                    <a:off x="5820480" y="1753560"/>
                    <a:ext cx="17596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rc 115"/>
                  <p:cNvSpPr/>
                  <p:nvPr/>
                </p:nvSpPr>
                <p:spPr>
                  <a:xfrm flipH="1">
                    <a:off x="2174760" y="1299960"/>
                    <a:ext cx="3130920" cy="293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rc 116"/>
                  <p:cNvSpPr/>
                  <p:nvPr/>
                </p:nvSpPr>
                <p:spPr>
                  <a:xfrm flipH="1">
                    <a:off x="3058560" y="683640"/>
                    <a:ext cx="22824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rc 117"/>
                  <p:cNvSpPr/>
                  <p:nvPr/>
                </p:nvSpPr>
                <p:spPr>
                  <a:xfrm>
                    <a:off x="5492520" y="1878120"/>
                    <a:ext cx="939600" cy="284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Freeform 118"/>
                  <p:cNvSpPr/>
                  <p:nvPr/>
                </p:nvSpPr>
                <p:spPr>
                  <a:xfrm flipH="1">
                    <a:off x="4301280" y="837360"/>
                    <a:ext cx="51408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Freeform 119"/>
                <p:cNvSpPr/>
                <p:nvPr/>
              </p:nvSpPr>
              <p:spPr>
                <a:xfrm rot="20253000">
                  <a:off x="6127200" y="2182680"/>
                  <a:ext cx="54720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Group 120"/>
            <p:cNvGrpSpPr/>
            <p:nvPr/>
          </p:nvGrpSpPr>
          <p:grpSpPr>
            <a:xfrm>
              <a:off x="2356920" y="733320"/>
              <a:ext cx="6397920" cy="4707720"/>
              <a:chOff x="2356920" y="733320"/>
              <a:chExt cx="6397920" cy="4707720"/>
            </a:xfrm>
          </p:grpSpPr>
          <p:sp>
            <p:nvSpPr>
              <p:cNvPr id="604" name="Freeform 121"/>
              <p:cNvSpPr/>
              <p:nvPr/>
            </p:nvSpPr>
            <p:spPr>
              <a:xfrm flipH="1">
                <a:off x="4478760" y="325512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rc 122"/>
              <p:cNvSpPr/>
              <p:nvPr/>
            </p:nvSpPr>
            <p:spPr>
              <a:xfrm flipH="1">
                <a:off x="3394800" y="2599920"/>
                <a:ext cx="26118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rc 123"/>
              <p:cNvSpPr/>
              <p:nvPr/>
            </p:nvSpPr>
            <p:spPr>
              <a:xfrm flipH="1">
                <a:off x="3656520" y="2142720"/>
                <a:ext cx="1530720" cy="29336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rc 124"/>
              <p:cNvSpPr/>
              <p:nvPr/>
            </p:nvSpPr>
            <p:spPr>
              <a:xfrm flipH="1">
                <a:off x="2356920" y="1759320"/>
                <a:ext cx="29246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Arc 125"/>
              <p:cNvSpPr/>
              <p:nvPr/>
            </p:nvSpPr>
            <p:spPr>
              <a:xfrm>
                <a:off x="5594040" y="2171160"/>
                <a:ext cx="4687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rc 126"/>
              <p:cNvSpPr/>
              <p:nvPr/>
            </p:nvSpPr>
            <p:spPr>
              <a:xfrm>
                <a:off x="5717160" y="2157480"/>
                <a:ext cx="123552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27"/>
              <p:cNvSpPr/>
              <p:nvPr/>
            </p:nvSpPr>
            <p:spPr>
              <a:xfrm>
                <a:off x="6160320" y="3567240"/>
                <a:ext cx="59688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28"/>
              <p:cNvSpPr/>
              <p:nvPr/>
            </p:nvSpPr>
            <p:spPr>
              <a:xfrm flipV="1" rot="19660800">
                <a:off x="5233320" y="2967480"/>
                <a:ext cx="542880" cy="1033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29"/>
              <p:cNvSpPr/>
              <p:nvPr/>
            </p:nvSpPr>
            <p:spPr>
              <a:xfrm flipH="1">
                <a:off x="2700000" y="3404520"/>
                <a:ext cx="13356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30"/>
              <p:cNvSpPr/>
              <p:nvPr/>
            </p:nvSpPr>
            <p:spPr>
              <a:xfrm flipH="1">
                <a:off x="3328560" y="1418760"/>
                <a:ext cx="8564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31"/>
              <p:cNvSpPr/>
              <p:nvPr/>
            </p:nvSpPr>
            <p:spPr>
              <a:xfrm>
                <a:off x="7515360" y="3128040"/>
                <a:ext cx="123948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2"/>
              <p:cNvSpPr/>
              <p:nvPr/>
            </p:nvSpPr>
            <p:spPr>
              <a:xfrm>
                <a:off x="6871680" y="2130120"/>
                <a:ext cx="186840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3"/>
              <p:cNvSpPr/>
              <p:nvPr/>
            </p:nvSpPr>
            <p:spPr>
              <a:xfrm>
                <a:off x="6940800" y="73332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4"/>
              <p:cNvSpPr/>
              <p:nvPr/>
            </p:nvSpPr>
            <p:spPr>
              <a:xfrm flipH="1" rot="1347000">
                <a:off x="4193280" y="2174400"/>
                <a:ext cx="54180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FA58-0AE8-46DE-91F7-A6E3012E42D2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660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840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846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2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A0F-25A2-42FB-BFC3-AECFE9466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05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18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CAA-2D3F-4C15-8555-10BB341BB9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Электробезопасност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357200" y="3885840"/>
            <a:ext cx="64152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спубликанский институт последипломного образования инженерно –педагогических работник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храна труд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28440" y="164268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истема сохранения жизни и здоровья работников в процессе трудовой деятельности, включающая в себя правовые, социально-экономические, организационно технические, санитарно-гигиенические, лечебно-профилактические, реабилитационные и иные мероприят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Электробезопасность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плекс мероприятий в области охраны труда подразумевает такие направления деятельности, как создание безопасных условий пребывания обучающихся и персонала, соблюдение санитарно-гигиенического режима, мер противопожарной безопасности и электробезопасности, обучение безопасному поведению. Знанию норм и правил охраны труда, ведение обязательной документации, определяемой номенклатурой дел, и многое друг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блемы электробезопас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ая квалификация лиц ответственных за электрохозя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статочно работников, которые могут обслуживать электрооборудование и осветительную сеть в образовательном учре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 индивидуальной защиты не в достаточном количестве и не всегда испытываются в с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водится медицинский осмотр работников. Выполняющих работы с повышенной опас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равила безопасной электроустановок потребител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2. Специалисты службы охраны труда обязаны контролировать безопасную эксплуатацию электроустановок и должны иметь группу четыре по электробезопас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3.3. Запрещается возлагать на энергослужбу обязанности, не входящие в ее профессиональную компетенц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Проблемы электробезопасности имеют комплексный характер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-Создание этого направления охраны труда определено целями государственной политики в области охраны труда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4:56:48Z</dcterms:created>
  <dc:creator>Василевский</dc:creator>
  <dc:description/>
  <dc:language>en-US</dc:language>
  <cp:lastModifiedBy>user</cp:lastModifiedBy>
  <dcterms:modified xsi:type="dcterms:W3CDTF">2016-12-19T07:07:17Z</dcterms:modified>
  <cp:revision>42</cp:revision>
  <dc:subject/>
  <dc:title>Опасности электрических систем</dc:title>
</cp:coreProperties>
</file>